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052-F85B-4DAC-B08C-384E4749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1EC-4F3F-49BD-8E62-94A44B48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4A9-1777-4283-89F7-819867CA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31A-17A7-44CB-AA95-6DEA0925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525-0A6C-408E-97D7-990E6927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EA4-D0E8-4F9C-921D-4C9A89E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D4E-FD42-41A5-925F-308C9EB2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F4B-8BC4-45C6-8256-CC3C3D03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650-2E98-4629-8EFF-6F8E3C40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200-B14D-4AFB-A534-340E06C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90B-5785-4EE0-B096-9E2BE19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AB0-2258-455E-974E-863707B6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84D4-2624-4F02-B5BC-D2E721DB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Pitch No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9691" t="19113" r="13363" b="32438"/>
          <a:stretch/>
        </p:blipFill>
        <p:spPr>
          <a:xfrm>
            <a:off x="3348000" y="4437000"/>
            <a:ext cx="2521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ble cle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9728" t="21330" r="53566" b="18242"/>
          <a:stretch/>
        </p:blipFill>
        <p:spPr>
          <a:xfrm>
            <a:off x="3487680" y="1268280"/>
            <a:ext cx="148608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79280" y="5805360"/>
            <a:ext cx="884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is sits on a set of 5 lines called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005" t="26132" r="24891" b="38874"/>
          <a:stretch/>
        </p:blipFill>
        <p:spPr>
          <a:xfrm>
            <a:off x="1619280" y="1484280"/>
            <a:ext cx="5688000" cy="426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9497" t="28090" r="59624" b="35167"/>
          <a:stretch/>
        </p:blipFill>
        <p:spPr>
          <a:xfrm>
            <a:off x="1476360" y="1700280"/>
            <a:ext cx="3384720" cy="446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284720" y="620640"/>
            <a:ext cx="4537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ut the trebl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ef on the staff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..like this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26920" y="404640"/>
            <a:ext cx="3135600" cy="18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52680" y="2664000"/>
            <a:ext cx="42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se look like blob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me have sticks to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7596" t="12828" r="10048" b="7998"/>
          <a:stretch/>
        </p:blipFill>
        <p:spPr>
          <a:xfrm>
            <a:off x="3348000" y="4292640"/>
            <a:ext cx="2160720" cy="17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508720" y="4365720"/>
            <a:ext cx="3097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n you rememb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many beat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ach one is worth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4360" y="907920"/>
            <a:ext cx="750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ch note has a letter name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640" y="4581360"/>
            <a:ext cx="741672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...and sits in a certai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ce on the staf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2492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28526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32846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3716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4149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3573360"/>
            <a:ext cx="5047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4360" y="3357720"/>
            <a:ext cx="5047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2637000"/>
            <a:ext cx="5047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933720"/>
            <a:ext cx="5047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2349360"/>
            <a:ext cx="505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32000" y="3645000"/>
            <a:ext cx="14472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067280" y="3429000"/>
            <a:ext cx="14436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76720" y="2708280"/>
            <a:ext cx="14472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24360" y="4005360"/>
            <a:ext cx="14472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43640" y="2421000"/>
            <a:ext cx="14436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92360" y="2852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27640" y="27079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932360" y="285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012000" y="321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in the spa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44644" t="14609" r="15273" b="53245"/>
          <a:stretch/>
        </p:blipFill>
        <p:spPr>
          <a:xfrm>
            <a:off x="1187280" y="1700280"/>
            <a:ext cx="6409080" cy="3854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771640" y="3860640"/>
            <a:ext cx="21600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771640" y="3429000"/>
            <a:ext cx="28764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771640" y="2997360"/>
            <a:ext cx="21600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71640" y="256536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4360" y="404640"/>
            <a:ext cx="75596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t them in orde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om low to hig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they look like this.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7148" r="0" b="12317"/>
          <a:stretch/>
        </p:blipFill>
        <p:spPr>
          <a:xfrm>
            <a:off x="1332000" y="2565360"/>
            <a:ext cx="66675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16:31:09Z</dcterms:created>
  <dc:creator>LFT1</dc:creator>
  <dc:description/>
  <dc:language>en-US</dc:language>
  <cp:lastModifiedBy>RMOSSER</cp:lastModifiedBy>
  <dcterms:modified xsi:type="dcterms:W3CDTF">2010-03-12T20:14:31Z</dcterms:modified>
  <cp:revision>19</cp:revision>
  <dc:subject/>
  <dc:title>Pitch Notation</dc:title>
</cp:coreProperties>
</file>